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DF69-06F6-425E-A15D-19A6097B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6EAE-78BE-41F8-AB34-37E9B39A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EEBE-08E0-40EF-81AE-F340A210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70D2-7511-4FB9-A100-8CD4062C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D258-059F-4B57-B54A-BFB13AC7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4B4E-54A6-4804-AA3E-A0B36B37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D4F1-F780-4412-A0C7-F7E5AAE9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1C33-3E04-430E-BE88-A15794B1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0F97-9E28-4D64-BC75-383B2DBF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938E-8E2A-42AC-86DB-D4F31AFB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9C84-E265-4F2C-B02D-1234D8A6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4699-68A5-4ED9-98A5-B32CEB21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3AD8-EE47-44C0-B814-23700FCA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D46F-ED72-4F45-8DE5-35AB2A76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3AD1-8C5F-4DB3-8D62-95809FD5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C6C6-9EE5-4631-BFAE-9CD5CBB3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7A2D-AF1F-4223-B3D4-45C69E46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1A68-7FCB-45C9-B174-9CA66302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B344-DE99-499A-94D9-78FCA4F8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DD80-F3EF-4229-A1E5-D468330E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C808-456C-4BF1-AE0F-5CA376F5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59AE-C60A-466E-BFF8-DE1A4F07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1458-17E5-49B1-B68D-E5AD1613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0A74-EA2C-4D92-9603-870A173C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D223-798C-4931-BE76-97139D3E8A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7DBB-B5D4-4E86-8838-EF06F081B3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Геодезический и лабораторный контроль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12840"/>
            <a:ext cx="812160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документации, отражающей вопросы организации службы геодезического и лабораторного контроля качества строительно-монтажных работ, включая примерные положения о геодезической службе в строительстве и о строительной лаборатор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дуль предоставляет пользователю возможность отобрать, скомпоновать, нужным образом отредактировать отобранный материал и оформить его в виде необходимого докумен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едоставляемые материалы основаны на актуальных требованиях нормативно-правового регулирования при проектировании, строительстве и реконструкции объектов капитального строительств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ыходные документы разрабатываются на основе поставляемых типовых раздел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меется возможность создания новых и правки существующих разделов в выходных документ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6307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131840" y="1552680"/>
            <a:ext cx="736272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979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190520" y="1630440"/>
            <a:ext cx="692784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4805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676520" y="1298520"/>
            <a:ext cx="6370560" cy="32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393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4157640"/>
            <a:ext cx="812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й требуемой информации можно сформировать и открыть в текстовом редакторе документацию, отражающую вопросы организации службы геодезического и лабораторного контроля качества строительно-монтажных работ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933560" y="1400040"/>
            <a:ext cx="5780160" cy="249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9-04T11:54:30Z</dcterms:modified>
  <cp:revision>258</cp:revision>
  <dc:subject/>
  <dc:title>Слайд 1</dc:title>
</cp:coreProperties>
</file>